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BFE-6D05-4CF5-8298-98D31D43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C15-B00C-4F2A-8BE1-2E87E9CD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8D0-2F92-4F54-A764-8113E96E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B0C-DAD1-48BE-9B66-EDDA9251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7ACB-D008-4947-A261-D5FF470D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D26-D006-41F7-A220-857CCCD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D53F-4075-4060-9859-532F2AF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E092-6926-4E48-B39C-97901AC5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1D71-4951-4202-BE75-BE57F31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92B-7E8F-4651-A9F1-5733AAA9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C125-48DB-464D-AEC5-F217263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4CC-B4EF-42A1-BB36-61B6B60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64F2-6D8A-425E-9C83-3AF7187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7FD-F1F7-4AF7-99B3-0DC4B02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9AC-C3A2-4040-94BE-C164BC93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320B-C056-478C-B863-288051C7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196-7C98-4CE9-859C-96C5932B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AB7F-AF3A-48FD-8496-0A17F9C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CBC2-C425-42B7-A180-A7E715FC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8F94-C072-4A33-AC64-543FBB39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6385-64E5-4A17-97A9-A257129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FF0A-EDBA-4A4F-8CDA-5F745CAA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328-A483-46CB-86E6-6287EED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6FAA-13B5-4279-8039-1D8E2D6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F3C7-1491-40E5-A45F-E092757B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B51F-4781-4AE0-A4C8-4AC3378C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3616-25C4-44F6-8206-8FB20A3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1FC1-B696-49DE-8EE7-0ECDE11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01F4-29A2-427B-A321-99FC8604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597F-F3A8-4D92-BE5D-DF771386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AE7F-576B-4CCC-BE34-CFB11531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81FB-0672-41FA-BD94-527F144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ACC0-3805-46CE-B79F-31E5048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5EB-90EA-4593-8566-CF0D5A62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F690-398B-4A2C-98ED-C494A02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B4A4-4BD7-4E11-8E3A-D4E5E49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32ED-9B03-4E63-9C28-C867EF5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BE50-91C1-4B6D-B020-67D714F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08C8-F8D6-449C-AA9A-26AD664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2DC1-B4FE-4E5A-A254-7FD584AA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992D-4CCE-4A1D-8C1B-738C185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5496-DFB0-4BA7-88E3-20500415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9553-4D9A-456D-84D3-4EEF9191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144B-5C8F-48E3-87D7-D72384BE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2AB-4085-467D-A88C-7957C17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D687-F8B4-492B-B1E0-4509E36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EEBE-3C80-4113-93CE-9ECDCAF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62E6-43F9-40F8-90F7-883C4F10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FD68-D090-4014-8C81-147956F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078C-5739-4672-B9EF-CA0D2D3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2B19-3F82-46FA-BD01-92D9BB0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4698-5CE0-4A24-9035-BA745B1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58FF-1A41-4144-A568-B692B3E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CA20-7A4F-4C8F-9432-3E467A04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805D-E2D7-4AED-9CEC-A4E8FC47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B2A-D9A7-4692-AFD8-23BCD6E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2CFD-7DA7-4F0B-8904-54CDC47E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9E936-A20D-40A0-85DE-6B60151E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D22B4-6823-466B-91DB-6F78F39F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52D86-5485-401A-BD26-B6D4E28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2E256-BC65-43D0-9C1F-135F1B7C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3E40F-626F-4B11-AE0A-FEE9761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CD7E8-7443-4F67-BA9B-B64D859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30117-8D05-42D0-840C-2BC332A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13255-1663-4B5A-BCC7-3CFB213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AA345-3AA6-4A57-A809-2355CD4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4CA-B47D-464C-BE6B-A8303D9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72B91-F69A-435D-9997-F401B78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2CFE7-F2E5-4692-9D01-C1D3D9CB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69D43-0F80-4999-88AD-E29A998A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86DE-6282-435E-A046-CD01A90E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CE4E-6F5E-4453-A4A4-7ED7FD3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9B3F-D937-4BFB-8839-DA334C75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DFF4-389E-493C-BEB4-51813CA9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08249-1174-483A-ADED-C1536F9B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D11E-93A7-41C4-86AD-D7A25D4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5628-67AC-4498-A5D9-0341D83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823-06BA-4A7A-BDCB-AE2A75AC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DD15-FA61-4B79-8039-9B4F756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5912-8E44-4EBD-9C1E-51FB651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2289-FEC1-4F94-A1BB-484F235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F161-EEA9-4A5C-B21B-9642A91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36EC-D145-4300-820B-2CE671EA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C5D-32F2-4CDE-A31E-5C1849D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AA25-CC50-4A9F-878B-F82E253D3F87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D433-4452-48CC-803D-C45D89647B1F}" type="slidenum">
              <a:rPr b="0" lang="es-E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8C76-FDC3-4668-9CBA-1D3C63387DCD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464-7719-43E1-945D-453E3D46D5F9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190-7DAE-4A3A-B462-5FEF94D46798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A27A-81F4-4BF2-9260-D274E21E669F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3EE8-EB81-4F3F-BC76-7CBBA392677A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l_fi" descr="Descripción: http://3.bp.blogspot.com/-36gTDssbevY/TZT3BwN2ixI/AAAAAAAAAJQ/PFr9HoyVFmk/s1600/t66894-0.jpg"/>
          <p:cNvPicPr/>
          <p:nvPr/>
        </p:nvPicPr>
        <p:blipFill>
          <a:blip r:embed="rId1"/>
          <a:stretch/>
        </p:blipFill>
        <p:spPr>
          <a:xfrm>
            <a:off x="1747800" y="1023840"/>
            <a:ext cx="54165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Imagen 5" descr="Descripción: http://ichn.iec.cat/bages/geologia/Imatges%20Grans/Fallaguix.jpg"/>
          <p:cNvPicPr/>
          <p:nvPr/>
        </p:nvPicPr>
        <p:blipFill>
          <a:blip r:embed="rId1"/>
          <a:stretch/>
        </p:blipFill>
        <p:spPr>
          <a:xfrm>
            <a:off x="1444680" y="946080"/>
            <a:ext cx="61516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en 13" descr="Descripción: http://educandonaturaleza.files.wordpress.com/2012/01/falla-castellbell.jpg?w=300&amp;h=193"/>
          <p:cNvPicPr/>
          <p:nvPr/>
        </p:nvPicPr>
        <p:blipFill>
          <a:blip r:embed="rId1"/>
          <a:stretch/>
        </p:blipFill>
        <p:spPr>
          <a:xfrm>
            <a:off x="1501920" y="1217520"/>
            <a:ext cx="635292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4" descr="Descripción: http://www.pendulo.mx/fotos/falla.jpg"/>
          <p:cNvPicPr/>
          <p:nvPr/>
        </p:nvPicPr>
        <p:blipFill>
          <a:blip r:embed="rId1"/>
          <a:stretch/>
        </p:blipFill>
        <p:spPr>
          <a:xfrm>
            <a:off x="1644480" y="1386000"/>
            <a:ext cx="6023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magen 6" descr="Descripción: http://3.bp.blogspot.com/_-1B7sI-tNMs/SnmsY9UsN2I/AAAAAAAAAYw/2Unf9QbnbAI/s640/falla+normal+foto+2.jpg"/>
          <p:cNvPicPr/>
          <p:nvPr/>
        </p:nvPicPr>
        <p:blipFill>
          <a:blip r:embed="rId1"/>
          <a:stretch/>
        </p:blipFill>
        <p:spPr>
          <a:xfrm>
            <a:off x="1692360" y="630360"/>
            <a:ext cx="57592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il_fi" descr="Descripción: http://i2.ytimg.com/vi/GyXZcqMD9Fc/0.jpg"/>
          <p:cNvPicPr/>
          <p:nvPr/>
        </p:nvPicPr>
        <p:blipFill>
          <a:blip r:embed="rId1"/>
          <a:stretch/>
        </p:blipFill>
        <p:spPr>
          <a:xfrm>
            <a:off x="1236600" y="927000"/>
            <a:ext cx="64310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Imagen 7" descr="Descripción: http://ies.migueldelibes.torrejondelacalzada.educa.madrid.org/archivos/recorridos/images/fallaesq.jpg"/>
          <p:cNvPicPr/>
          <p:nvPr/>
        </p:nvPicPr>
        <p:blipFill>
          <a:blip r:embed="rId1"/>
          <a:stretch/>
        </p:blipFill>
        <p:spPr>
          <a:xfrm>
            <a:off x="824040" y="984240"/>
            <a:ext cx="7348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Imagen 8" descr="Descripción: http://www.unipg.it/pmonaco/Bryce.docs/Brycefigures/Brycedocs/0.Graben3muds.gif"/>
          <p:cNvPicPr/>
          <p:nvPr/>
        </p:nvPicPr>
        <p:blipFill>
          <a:blip r:embed="rId1"/>
          <a:stretch/>
        </p:blipFill>
        <p:spPr>
          <a:xfrm>
            <a:off x="1608120" y="1197000"/>
            <a:ext cx="613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Imagen 9" descr="Descripción: http://www.idahogeology.org/FieldWorkshops/BorahPeak95/Images/horst%20&amp;%20graben%202.jpg"/>
          <p:cNvPicPr/>
          <p:nvPr/>
        </p:nvPicPr>
        <p:blipFill>
          <a:blip r:embed="rId1"/>
          <a:stretch/>
        </p:blipFill>
        <p:spPr>
          <a:xfrm>
            <a:off x="1397160" y="1197000"/>
            <a:ext cx="6362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l_fi" descr="Descripción: http://upload.wikimedia.org/wikipedia/commons/thumb/6/65/Diaclasas_en_dolom%C3%ADas_Cuenca.jpg/290px-Diaclasas_en_dolom%C3%ADas_Cuenca.jpg"/>
          <p:cNvPicPr/>
          <p:nvPr/>
        </p:nvPicPr>
        <p:blipFill>
          <a:blip r:embed="rId1"/>
          <a:stretch/>
        </p:blipFill>
        <p:spPr>
          <a:xfrm>
            <a:off x="1425600" y="1173240"/>
            <a:ext cx="60991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l_fi" descr="U3336-Diaclasas-N-S"/>
          <p:cNvPicPr/>
          <p:nvPr/>
        </p:nvPicPr>
        <p:blipFill>
          <a:blip r:embed="rId1"/>
          <a:stretch/>
        </p:blipFill>
        <p:spPr>
          <a:xfrm>
            <a:off x="1114560" y="720720"/>
            <a:ext cx="64818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l_fi" descr="Descripción: http://1.bp.blogspot.com/_O4wampeEy6c/SunpY8R6BsI/AAAAAAAAAv8/j_bvQNCmAEA/s400/falla1.jpg"/>
          <p:cNvPicPr/>
          <p:nvPr/>
        </p:nvPicPr>
        <p:blipFill>
          <a:blip r:embed="rId1"/>
          <a:stretch/>
        </p:blipFill>
        <p:spPr>
          <a:xfrm>
            <a:off x="1547640" y="1125360"/>
            <a:ext cx="6499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BLOGGER_PHOTO_ID_5404830477392588290" descr="basalto03"/>
          <p:cNvPicPr/>
          <p:nvPr/>
        </p:nvPicPr>
        <p:blipFill>
          <a:blip r:embed="rId1"/>
          <a:stretch/>
        </p:blipFill>
        <p:spPr>
          <a:xfrm>
            <a:off x="1879560" y="1628640"/>
            <a:ext cx="571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BLOGGER_PHOTO_ID_5404827589937514578" descr="basalto04"/>
          <p:cNvPicPr/>
          <p:nvPr/>
        </p:nvPicPr>
        <p:blipFill>
          <a:blip r:embed="rId1"/>
          <a:stretch/>
        </p:blipFill>
        <p:spPr>
          <a:xfrm>
            <a:off x="2987640" y="811080"/>
            <a:ext cx="37450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il_fi" descr="5023178359_9b27836e31_z"/>
          <p:cNvPicPr/>
          <p:nvPr/>
        </p:nvPicPr>
        <p:blipFill>
          <a:blip r:embed="rId1"/>
          <a:stretch/>
        </p:blipFill>
        <p:spPr>
          <a:xfrm>
            <a:off x="1908000" y="1176480"/>
            <a:ext cx="57358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l_fi" descr="Descripción: http://farm5.staticflickr.com/4130/5023780770_32eba1d310.jpg"/>
          <p:cNvPicPr/>
          <p:nvPr/>
        </p:nvPicPr>
        <p:blipFill>
          <a:blip r:embed="rId1"/>
          <a:stretch/>
        </p:blipFill>
        <p:spPr>
          <a:xfrm>
            <a:off x="1403280" y="620640"/>
            <a:ext cx="671688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l_fi" descr="250px-Columnar_Basalt_Devil%27s_Postpile_California"/>
          <p:cNvPicPr/>
          <p:nvPr/>
        </p:nvPicPr>
        <p:blipFill>
          <a:blip r:embed="rId1"/>
          <a:stretch/>
        </p:blipFill>
        <p:spPr>
          <a:xfrm>
            <a:off x="1438200" y="981000"/>
            <a:ext cx="64468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il_fi" descr="Descripción: http://educandonaturaleza.files.wordpress.com/2012/01/foto-pliegue.jpg"/>
          <p:cNvPicPr/>
          <p:nvPr/>
        </p:nvPicPr>
        <p:blipFill>
          <a:blip r:embed="rId1"/>
          <a:stretch/>
        </p:blipFill>
        <p:spPr>
          <a:xfrm>
            <a:off x="826920" y="1341360"/>
            <a:ext cx="76392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l_fi" descr="Descripción: http://4.bp.blogspot.com/_UMd6xSNDOlQ/S7Z6s968qaI/AAAAAAAAAoo/jELcPXzq4ik/s1600/IMGP5794.JPG"/>
          <p:cNvPicPr/>
          <p:nvPr/>
        </p:nvPicPr>
        <p:blipFill>
          <a:blip r:embed="rId1"/>
          <a:stretch/>
        </p:blipFill>
        <p:spPr>
          <a:xfrm>
            <a:off x="1800360" y="1413000"/>
            <a:ext cx="5470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l_fi" descr="Descripción: http://www.redes-cepalcala.org/ciencias1/Images5/islandia/geologia/glaciarismo/glaciarismo_16_pliegues.jpg"/>
          <p:cNvPicPr/>
          <p:nvPr/>
        </p:nvPicPr>
        <p:blipFill>
          <a:blip r:embed="rId1"/>
          <a:stretch/>
        </p:blipFill>
        <p:spPr>
          <a:xfrm>
            <a:off x="676440" y="1484280"/>
            <a:ext cx="7691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l_fi" descr="Descripción: http://idata.over-blog.com/3/28/66/98/Fotos-de-presentaci-n/2003-11_01-SnclnBarca.jpg"/>
          <p:cNvPicPr/>
          <p:nvPr/>
        </p:nvPicPr>
        <p:blipFill>
          <a:blip r:embed="rId1"/>
          <a:stretch/>
        </p:blipFill>
        <p:spPr>
          <a:xfrm>
            <a:off x="1601640" y="1139760"/>
            <a:ext cx="57787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Imagen 2" descr="Descripción: http://www.pirineos3000.com/fotos/ascensiones/800x600/16072_20.jpg"/>
          <p:cNvPicPr/>
          <p:nvPr/>
        </p:nvPicPr>
        <p:blipFill>
          <a:blip r:embed="rId1"/>
          <a:stretch/>
        </p:blipFill>
        <p:spPr>
          <a:xfrm>
            <a:off x="2268360" y="1557360"/>
            <a:ext cx="50356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n 3" descr="Descripción: http://www.pirineos3000.com/fotos/ascensiones/800x600/17686_16.jpg"/>
          <p:cNvPicPr/>
          <p:nvPr/>
        </p:nvPicPr>
        <p:blipFill>
          <a:blip r:embed="rId1"/>
          <a:stretch/>
        </p:blipFill>
        <p:spPr>
          <a:xfrm>
            <a:off x="1763640" y="1125360"/>
            <a:ext cx="6123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il_fi" descr="Descripción: http://2.bp.blogspot.com/_XrjnW6_RxcI/TStGk8MOd-I/AAAAAAAAACc/9ytc8GCBNrg/s1600/foto-pliegues.jpg"/>
          <p:cNvPicPr/>
          <p:nvPr/>
        </p:nvPicPr>
        <p:blipFill>
          <a:blip r:embed="rId1"/>
          <a:stretch/>
        </p:blipFill>
        <p:spPr>
          <a:xfrm>
            <a:off x="1403280" y="692280"/>
            <a:ext cx="575964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21:03:03Z</dcterms:created>
  <dc:creator>inma</dc:creator>
  <dc:description/>
  <dc:language>en-US</dc:language>
  <cp:lastModifiedBy>inma</cp:lastModifiedBy>
  <dcterms:modified xsi:type="dcterms:W3CDTF">2013-01-14T21:21:54Z</dcterms:modified>
  <cp:revision>3</cp:revision>
  <dc:subject/>
  <dc:title>Presentación de PowerPoint</dc:title>
</cp:coreProperties>
</file>